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B00-F42E-47E4-9FD7-4FC45F31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46D-04D7-4620-9C5D-93E6EA9A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CEE-2251-46AD-97E7-4BEE4B80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047-2653-41F0-8466-3D5FD416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568-0392-4D76-AB7A-8E38791D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463-A888-4F45-8009-7BFCCEC6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5C0-0D10-4364-A5A2-63403F0B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2E6-627E-4CEA-8C29-E6B82781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36F-CD3A-446C-A927-CACFB72F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4AF-3A70-4F3A-B371-EF2C441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7DC-D02B-433A-8802-C98708E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403-AA88-438F-84CD-183237FA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4AF86-341A-4EBB-ADCB-35D9C83C1FA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eoría general de Sistem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¿Qué no es sistema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1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Cómo saber si algo es un sist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Puede identificar las par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Las partes se afectan entre ell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Las partes juntas producen un efecto distinto  a cada parte por sepa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El efecto, comportamiento a lo largo del tiempo, persiste en diferentes circunstanc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Propiedades de un sistema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oción de Integ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ntes diná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n flexi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e auto-organiz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omponentes de un sistem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ementos: Es lo más visible de un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Ár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aíz, tallo,Hojas, Flores, Fr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ás detallado → Canales, Cloroplas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studiantes, Profesores, Edi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estigio, Productividad  (Intangi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Interrel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Árb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ensajes quí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Canales de Fluidos (Sav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stándares de Ad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eglas para el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lujo de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Funciones o propósitos</a:t>
            </a: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 más difícil de ver. (Soretodo si no se conoce el sistem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Ár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oduci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utrirse al má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uevo Cono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ormación Integ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an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doctr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servas y Fluj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ervas, fundamento de to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on los elementos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e ven, se sienten, se cuentan se mi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es una acumulación de algo que se ha construido a lo alergo del tiempo. (Material, Información, etc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 de reserv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gua en un depós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adera en un árbol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inero en una cu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uto est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s reservas no tienen que ser fís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s reservas cambien gracias a los </a:t>
            </a: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flu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 de Fluj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acimientos, mue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ompras,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recimiento, deca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pósitos,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xitos, frac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es la memoria presente de la historia de los cambios de flujo a través de un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1: Mina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 depósito de mineral es una reser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 ella sale un flujo  (Producción de la 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flujo de entrada toma siglos en produci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00360" y="4140360"/>
            <a:ext cx="5616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2  Agua en una repres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31640" y="2700360"/>
            <a:ext cx="90741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Frase de Meadow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7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7200" spc="-1" strike="noStrike">
                <a:solidFill>
                  <a:srgbClr val="000000"/>
                </a:solidFill>
                <a:latin typeface="Arial"/>
              </a:rPr>
              <a:t>El Comportamiento está latente en la estructura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3 : Madera en un Bosqu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3280" y="1908000"/>
            <a:ext cx="9145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Agua en una bañera 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Nivel de agua cuando se quita el t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0360" y="1763640"/>
            <a:ext cx="9001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Agua en una bañera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226656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bre el tapón y luego se abre el gri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9280" y="1979640"/>
            <a:ext cx="90691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4920" y="220032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9280" y="1908000"/>
            <a:ext cx="4575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ás fácil enfocarse en reservas que en flu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ás fácil flujos de entrada que de sa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lenar una bañ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Aumentando el flujo del gr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Disminuyendo el tamaño del tá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Fuerza de trabajo en una empr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ás trabaj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duciendo los desp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toma tiempo en camb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flujos toman tiempo en fl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ervas cambian lent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Vaciar una bañ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recimiento de un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adera en un b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cuperar la capa de oz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flujos de entrada y salida rara vez están balance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Producción de petroleo = Consu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tock de productos = dema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cibo del sueldo = gasto del Din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or eso existen las reservas, Entrada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Sal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an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od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Pensamiento Sistém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Ver el mundo como una colección de reservas junto con sus mecanismos de regulación de entrada y salida de flu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 lo que es equiva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Ver el mundo como una colección de </a:t>
            </a: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procesos de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servas, Flujos y Retroali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uando una reserva crece, decrece o es e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uy seguramente hay un mecanismo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hay un comportamiento que persiste  en el tiempo, hay un mecanismo que está creando este comportami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El mecanismo es un  Bucle de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: Cuenta Bancar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stado de cuenta 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 Reser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 es baja 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Consigo más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alta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Trabajo m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Dos maneras de estabi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Inflow </a:t>
            </a:r>
            <a:r>
              <a:rPr b="0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Conseguir más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Outflow </a:t>
            </a:r>
            <a:r>
              <a:rPr b="0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Gastar m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0000" y="2843280"/>
            <a:ext cx="4924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¿Pregunta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Qué decisión humana ocurre sin un bucle de retroaliment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Qué decisión es realizada sin tener en cuenta información del nivel de la reserva que involuc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puestas comu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namo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ometer Suici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En estos casos no hay retroaliment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¿Qué es un sistema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Conjunto de partes </a:t>
            </a:r>
            <a:r>
              <a:rPr b="1" lang="fi-FI" sz="4800" spc="-1" strike="noStrike">
                <a:solidFill>
                  <a:srgbClr val="000000"/>
                </a:solidFill>
                <a:latin typeface="Arial"/>
              </a:rPr>
              <a:t>interrelacionadas</a:t>
            </a: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de tal manera que producen </a:t>
            </a:r>
            <a:r>
              <a:rPr b="1" lang="fi-FI" sz="4800" spc="-1" strike="noStrike">
                <a:solidFill>
                  <a:srgbClr val="000000"/>
                </a:solidFill>
                <a:latin typeface="Arial"/>
              </a:rPr>
              <a:t>patrones</a:t>
            </a: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de comportamiento con el </a:t>
            </a:r>
            <a:r>
              <a:rPr b="1" lang="fi-FI" sz="4800" spc="-1" strike="noStrike">
                <a:solidFill>
                  <a:srgbClr val="000000"/>
                </a:solidFill>
                <a:latin typeface="Arial"/>
              </a:rPr>
              <a:t>tiempo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gla út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tiempo que toma a una reserva doblar su cantidad, es aprox igual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70/ (rata de crecimi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egunta: $100 en un banco al 7%, en cuanto tiempo tengo $2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puesta:  70/ 7 = 10 año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empre que observe que A causa B, piense en como B puede a su vez afectar a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el crecimiento de población produce pobreza, cómo la pobreza puede producir crecimi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troalimentación induce a la idea de que un sistema puede causar su propio comportamiento ( no culpar a los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egunta : ¿Quién es el culp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ueva Pregunta: ¿Cuál es el sist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istemas y Causas Externa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líticos causan recesión econó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petidores procucen pérdida de cuota de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a gripa no lo ataca, Se crean condiciones para que florez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icción a la droga no es la caida de un individuo (Nadie solo puede curar a un adic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Definició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Conjunto de elementos conectados coherentemente y organizados de tal manera que producen algo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omponentes de un sistema</a:t>
            </a: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Elementos (Agen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Interela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Función o propósi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Ejemplo 1: Sistema Digestiv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em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ientes, Enzimas, Estómago, Intest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terrel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lujo de comida, Señales químicas regulad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u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escomponer comida en nutriente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ransferir nutrientes a la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esechar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Ejemplo 2: Equipo de Fútbo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em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ugadors,Entrenador, campo,ba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terrel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eglas del juego, estrategia del entrenador, comunicciones entre jugaodres, leyes de la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u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anar juegos, hacer ejercicio, hacer dinero (o to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Otros Ejempl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legio,Ciu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ábrica, Economía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 animal, un árbol, un Bo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a tierrra, sistema solar, Galax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5:25:17Z</dcterms:created>
  <dc:creator>alf </dc:creator>
  <dc:description/>
  <dc:language>en-US</dc:language>
  <cp:lastModifiedBy>WinuE</cp:lastModifiedBy>
  <dcterms:modified xsi:type="dcterms:W3CDTF">2012-02-28T16:30:58Z</dcterms:modified>
  <cp:revision>20</cp:revision>
  <dc:subject/>
  <dc:title>Teoría general de Sistemas</dc:title>
</cp:coreProperties>
</file>